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A37-D773-4352-B418-28FEF760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2F6-256B-4924-B635-2DF9D41F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585B-9A18-49B9-8951-B191E9D6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5F4-83A6-4A57-9FDC-FD44F8B4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91F-9D5E-490D-9C50-B7E0CE12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B54-6078-474D-B79C-EA125C1A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8F2-5BCE-4361-B507-A189EECA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80F-7B54-456F-9F43-D0F80E47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4B4-ECC1-409C-9E27-84D0C5EC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41C-23EB-4729-80B9-15B566D5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696-7252-44A6-A1C3-3ABDEA11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5D1-2F5B-49B5-ACDD-665608B1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C7FA-CCDB-42E2-9C2E-445CA217D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pport de com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ison des différentes méthodes de compression sur plusieurs fich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60948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819520" y="1676520"/>
          <a:ext cx="2514600" cy="55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676520"/>
                    <a:ext cx="2514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57800" y="16765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68580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501480"/>
          <a:ext cx="9144000" cy="585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1480"/>
                    <a:ext cx="9144000" cy="585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49520" y="617220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u : taille initiale. Rouge : taille fi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600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 760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103320"/>
          <a:ext cx="8077320" cy="675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3320"/>
                    <a:ext cx="807732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419720" y="13716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9 878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6880" y="598500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eurs 24 bits 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0"/>
          <a:ext cx="815364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15364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87120" y="624852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 couleurs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905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 686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62120" y="0"/>
          <a:ext cx="777240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7724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3520" y="0"/>
          <a:ext cx="815328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15328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33920" y="1828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4 454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3040" y="61722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2kbps, 16bits, 22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0"/>
          <a:ext cx="7696080" cy="68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69608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6:17:19Z</dcterms:created>
  <dc:creator>Monchamps</dc:creator>
  <dc:description/>
  <dc:language>en-US</dc:language>
  <cp:lastModifiedBy>Monchamps</cp:lastModifiedBy>
  <dcterms:modified xsi:type="dcterms:W3CDTF">2004-05-16T20:01:31Z</dcterms:modified>
  <cp:revision>21</cp:revision>
  <dc:subject/>
  <dc:title>Rapport de compression</dc:title>
</cp:coreProperties>
</file>